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04D-384B-47AA-8E4F-01DA9989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BBC-0FF8-420A-8DFD-DEBC86F1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3D2-D485-4CE9-960B-E1E72754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A3F-A8DD-4916-9937-FD213729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0BD-AD76-475B-B37A-8F5DE277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802-BA0E-4FC9-B2FF-5348B3D3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9B1-BD5D-403A-83F8-B5AA6FA4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871-09CE-4C2E-8DCB-6C8B5BF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5C5-689F-4A7D-9F66-FF41CF90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81D-568B-47B2-9DD0-25560CB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EE4-6E55-442E-88DD-253E9FF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C5D-E638-4953-A16B-166BE54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2F9A-4D84-4F49-B7A4-5BC244FE4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t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867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2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51Z</dcterms:created>
  <dc:creator>User</dc:creator>
  <dc:description/>
  <dc:language>en-US</dc:language>
  <cp:lastModifiedBy>User</cp:lastModifiedBy>
  <dcterms:modified xsi:type="dcterms:W3CDTF">2012-02-04T11:08:57Z</dcterms:modified>
  <cp:revision>9</cp:revision>
  <dc:subject/>
  <dc:title>CAPITOLUL 3</dc:title>
</cp:coreProperties>
</file>